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876-38B2-4ED3-8570-064CEBCD2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4EA-DEF5-4E5F-ABD0-2E9841EB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BDC-7EAF-4A38-8BCA-D1FA9A951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370A-DBE2-41C3-A7BB-5FFC7353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E790-EEB5-4C0D-8413-196DBE23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0CED-AF27-432D-BBE3-778AD57F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09C4-D073-4415-9F29-8588EA7A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EDAD-7351-4D3E-8BC6-56CC5B91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7719-373D-43DB-A9CB-47FFFCC4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190E-FD21-4D11-93B9-8BE5064F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767F-0697-4D89-8CA2-7D4C805B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4F0-7694-4090-95BB-0AB4D2D9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2266-D895-4C26-9967-EBB75E4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9476-0C9A-4F0B-9891-E864EAB2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5C1B-9505-43AC-B826-A5673226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0BE4-972D-4857-B65D-1E46F5E5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E2D-D886-4188-AB89-C14FD679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91FBE-5DB3-4AE6-A4A7-CD84D47B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55292-72D7-408A-AA94-704BE3A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0F58B-25DC-435B-8FDC-26AD58E6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799A3-EEBE-471B-BFF3-3DF5A8ED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153A4-8A19-4F3E-BC65-84830A3D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A82-0A84-46C8-9A64-AFE6BC3C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644F9-866F-4E14-AF37-7A52FBD4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1960D6-0FE2-4BA7-9E32-09950EF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8B2A5-50F1-46FF-A060-806E6C5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B8EC7-F885-4D2D-9C59-45BE479C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BBDA1-1EF0-473A-855B-1D788E5E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9ED74-78FB-4904-918F-F401BCD5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62D6A-0284-4816-936C-431434A9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480CF6-CA74-4574-B0E7-E75209F8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4CDE6-1A96-4AAD-9B1F-DA0E52DD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68A04C-56C2-4ECF-9FFD-1DF3E144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AA7-D25B-45F9-B1B3-3B53BC7E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BEF1A-35F2-4C88-9B41-A807980F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BAC847-7DAB-4FAD-B5D8-8925060D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8A7B6-0633-4098-A020-474D0919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E2E591-19B2-4C34-A880-A8266F2D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EDC76-B2BE-4F5C-B96A-6392C06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ACD9ED-C15E-4709-99BA-639B1A1A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50CE6C-3F4D-4040-BEDC-0D722BC0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575ED-DB33-41CF-B71D-E7314AB6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257CB-FCEE-4045-9F67-DDDB46B0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3EA8C7-9BCD-4249-85AA-9A1AD07F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4716-797D-4712-87DF-18581C1C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E7596-62ED-4903-9A54-5D5DEA83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5FCF4-457B-4454-B053-AF5CFC8D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D11F1-C633-43EF-97E8-E36C91A4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4AD08-C371-4070-B4E6-C8BE23F5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43533-A8C0-47AB-A9C9-6DBC1D6D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9A412-CB59-4086-980E-8FFA4938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CB5CC-8B21-480C-8158-8B452CB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50BCE5-F2D8-4312-8D67-6819EB28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8E9AA5-14E7-424D-820D-3C30BB5B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E6311E-8D3D-401E-9AAA-F60A42FB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96D8-DD28-4A17-B110-281B2CCE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01EAB-CDA2-424F-AB3C-3391DFB7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D5E4-5E98-4EFA-9BDA-6FEF2080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25C5-6F51-4301-9B88-1BCB0C35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B8DAF-B34D-419F-A64F-68A3E3B3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E9E5-D14F-45DB-B959-A491C0C4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F255C-63A3-47AF-974F-49844F74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50ACD-0075-49AF-9EE9-18FE1F7B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F2DE4-890A-4520-A474-2F14FDF2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9A09F-8D95-444F-9961-5CFF885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9F902-E8AD-48F3-AD4B-4FD20778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584C-4C90-46DE-8FBE-F019251E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C21C-8338-4CA6-BF0B-545F1A34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03A65-B82A-4EE0-8C43-CA0C6FA2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DB798-93D8-4CD4-BEBB-C616D2F7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E2297D-13BC-480E-A956-0673A03B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BF806F-81EB-450B-BE09-6E415FF4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D16943-85A8-45C4-83BE-10C53616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82168-D721-4658-9867-2FB94205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D6C6F-E8E5-4426-A732-7528B430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87F21-102A-4B42-9B0B-E86860E3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9AC44-1B89-4B08-8AAC-8FFB6EBE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D6E4-0209-48C2-9700-3A955B9E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B19DF7-6DC7-4101-833E-7B24BEE5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EE7DB5-FDBC-4D44-A92F-32A46791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2F2591-3F54-421F-B2E3-7744A788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696A5-97D3-459C-8296-D59DED24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3E7E2-BC74-49D0-AC5D-F8617062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70108-0FF8-40FD-B55A-DD6934771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24450-4362-456B-833C-661A12CF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44FBB-491E-4313-88C3-7ABB3F72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C8E03-4BB4-4A7B-8A68-6D96057F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548E7-F38A-45EE-8FDE-7D2024B7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9742-E2C2-4E46-9174-D3F7761A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5B240-EB17-4344-80EA-F5E37322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23333-D133-4F54-B954-DA760827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A510-5914-4BA4-A1BA-260BCE1D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3391D-8FB7-4A72-8A0B-419EEDF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657E1-F1C9-4638-BF4B-92820DC5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2C2A3-E27F-47F4-B985-7584AEAA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B9A8-3F7D-4C79-A73E-9AC2AD40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BEEC-EA9A-40DA-AAE0-E1DF651DDC1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BC52-E090-4381-A575-E4A62781C46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4C93-BEB7-4D3B-A16E-D464E0B73A9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5124-8E40-4F46-A46B-BC1219FFB76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EC4-4E36-43BF-9FDA-4D51A4C9789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8E2A-462A-4C01-987F-F624ABE83DD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B30E-02A8-4914-B85B-B379B5758F1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0FC7-BABC-4D80-8D26-13514224938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form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609120" y="14479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x was in charge of getting the equipment for the 14 people in his baseball team.  He made sure he had 8 bats and 38 baseballs.  He also bought enough gloves for each person on the team to have a glove.  He had to have all of the equipment for his first team practice at 4:30 P.M. on Saturday, June 5.  They planned to practice for 60 minutes each Saturday in June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914400" y="3505320"/>
            <a:ext cx="7620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Ju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14400" y="3962520"/>
          <a:ext cx="7620120" cy="266688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089000"/>
                <a:gridCol w="1089000"/>
                <a:gridCol w="1087560"/>
                <a:gridCol w="108900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u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u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r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n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Max bought twice as many baseballs, how many would he have purchas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ue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more bats would Max have to buy for each team member to have his own ba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dne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hours did the team practice in Ju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urs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15998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time was the practice ove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rida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w many fewer bats did Max get than baseball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20:32:10Z</dcterms:created>
  <dc:creator>127partidak</dc:creator>
  <dc:description/>
  <dc:language>en-US</dc:language>
  <cp:lastModifiedBy>127partidak</cp:lastModifiedBy>
  <dcterms:modified xsi:type="dcterms:W3CDTF">2011-09-26T20:43:37Z</dcterms:modified>
  <cp:revision>2</cp:revision>
  <dc:subject/>
  <dc:title>Information</dc:title>
</cp:coreProperties>
</file>